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F43-61D6-4726-99FD-5D28EBEA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FEB-FC9A-438C-98E4-27AF18B7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FB4-BA60-465B-9268-8CDDFFA8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DD7-D1FD-427E-A821-87D956EA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7E8-C1AF-4C29-8832-76BEF224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DB3-4F15-46B1-92ED-31852E3A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751-0EDF-4F03-9DCB-06182305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902-4FC5-4124-B11D-55B525F5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511-D7AD-4A0C-8002-AD5C7BED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ADE-83D9-4AB1-889D-DEF588C7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06A-2DFC-4158-A8DD-2AE21A70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117-3647-4308-A9EE-4237E0F4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5DE9-C4D1-4F80-BEEA-7136FECA611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92 Pán buď s vami, kým sa zíd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Pán buď s vami, kým sa zídeme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múdrosť svoju vždy vám dávaj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v nádeji vás zachovávaj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Pán buď s vami, kým sa zíde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a opäť spolu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uď s vami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a zí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osielaj vám mannu z n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deľuj, čo k blahu treb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uď s vami, kým sa zídeme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a opäť spolu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uď s vami, kým sa zí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chovaj vás v láske svoj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žeň všetky nepoko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uď s vami, kým sa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a opäť spolu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uď s vami, kým sa zí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íchrice keď budú hrozi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vami zostaň pokoj Bož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buď s vami, kým sa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sa opäť spolu zídem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11:49Z</dcterms:modified>
  <cp:revision>96</cp:revision>
  <dc:subject/>
  <dc:title>Je veľký náš Pán, on slávy je Kráľ Nech do všetkých strán  spev vrúcnych znie chvál.</dc:title>
</cp:coreProperties>
</file>